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CF5D-17DA-4A3F-B66C-761C8079DA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8D13-F676-4FC0-A9C4-E707742E87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EF5-9511-4646-9ED8-20150809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5AE-8303-468B-855B-F9BB3774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B47-2F33-4D0E-8835-7CBFCB44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952-85FB-4FCA-89CA-A2A0C7AF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19E-383F-4C06-955F-0A77BF0A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49E-1260-48DB-B557-CA141FBD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A81-0546-42C1-A333-36C4722D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8AE-D841-41FD-B41E-40645B32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B41-2073-4E84-9739-1F3B257F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139D-A84F-4AC1-8289-F458E697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88B-ABC5-485F-8D04-4C72B725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98F-055D-48A4-B6C0-11398CFE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23BE-0430-4366-A9B7-3B4E65063E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Е РЕА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D:\ТАМАРА\D9 презентации все\картинки\картинки анемешки\Animated\J0076135.GIF"/>
          <p:cNvPicPr/>
          <p:nvPr/>
        </p:nvPicPr>
        <p:blipFill>
          <a:blip r:embed="rId1"/>
          <a:stretch/>
        </p:blipFill>
        <p:spPr>
          <a:xfrm>
            <a:off x="857160" y="3000240"/>
            <a:ext cx="75009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Изображение 107"/>
          <p:cNvPicPr/>
          <p:nvPr/>
        </p:nvPicPr>
        <p:blipFill>
          <a:blip r:embed="rId2"/>
          <a:stretch/>
        </p:blipFill>
        <p:spPr>
          <a:xfrm>
            <a:off x="214200" y="285840"/>
            <a:ext cx="86439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Изображение 108"/>
          <p:cNvPicPr/>
          <p:nvPr/>
        </p:nvPicPr>
        <p:blipFill>
          <a:blip r:embed="rId2"/>
          <a:stretch/>
        </p:blipFill>
        <p:spPr>
          <a:xfrm>
            <a:off x="357120" y="428760"/>
            <a:ext cx="86439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Изображение 108"/>
          <p:cNvPicPr/>
          <p:nvPr/>
        </p:nvPicPr>
        <p:blipFill>
          <a:blip r:embed="rId2"/>
          <a:stretch/>
        </p:blipFill>
        <p:spPr>
          <a:xfrm>
            <a:off x="571680" y="571680"/>
            <a:ext cx="7929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Изображение 108"/>
          <p:cNvPicPr/>
          <p:nvPr/>
        </p:nvPicPr>
        <p:blipFill>
          <a:blip r:embed="rId2"/>
          <a:stretch/>
        </p:blipFill>
        <p:spPr>
          <a:xfrm>
            <a:off x="357120" y="285840"/>
            <a:ext cx="8572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ейшие окислители и восстановит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Изображение 109"/>
          <p:cNvPicPr/>
          <p:nvPr/>
        </p:nvPicPr>
        <p:blipFill>
          <a:blip r:embed="rId2"/>
          <a:stretch/>
        </p:blipFill>
        <p:spPr>
          <a:xfrm>
            <a:off x="428760" y="1714680"/>
            <a:ext cx="8315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орные понятия теории ОВ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о называется процессом восстанов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изменяется степень окисления элемента при восстановлени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о называется процессом окис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 изменяется степень окисления элемента при окислени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пределите понятие «восстановител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пределите понятие «окислител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ак предсказать функцию вещества по степени окисления элемент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азовите важнейшие восстановители и окислит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Какие реакции называются окислительно-восстановительным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мические реак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Изображение 064"/>
          <p:cNvPicPr/>
          <p:nvPr/>
        </p:nvPicPr>
        <p:blipFill>
          <a:blip r:embed="rId2"/>
          <a:stretch/>
        </p:blipFill>
        <p:spPr>
          <a:xfrm>
            <a:off x="214200" y="285840"/>
            <a:ext cx="8501040" cy="5932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2500200" y="857160"/>
            <a:ext cx="171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мические реа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571760" y="1214280"/>
            <a:ext cx="5500440" cy="1556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зменению степени окисления атомов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357120" y="3643200"/>
            <a:ext cx="3929040" cy="1068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643280" y="2714760"/>
            <a:ext cx="4286520" cy="1555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 изменения степени окисления атомов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 все реакции ионного обмена, а также многие реакции соед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Прямая со стрелкой 8"/>
          <p:cNvCxnSpPr/>
          <p:nvPr/>
        </p:nvCxnSpPr>
        <p:spPr>
          <a:xfrm flipH="1">
            <a:off x="2714400" y="2428920"/>
            <a:ext cx="78624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10"/>
          <p:cNvCxnSpPr/>
          <p:nvPr/>
        </p:nvCxnSpPr>
        <p:spPr>
          <a:xfrm>
            <a:off x="5643360" y="2428560"/>
            <a:ext cx="5720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9" name="Picture 2" descr="C:\Documents and Settings\Admin\Мои документы\Мои рисунки\Изображение\Изображение 075.jpg"/>
          <p:cNvPicPr/>
          <p:nvPr/>
        </p:nvPicPr>
        <p:blipFill>
          <a:blip r:embed="rId1"/>
          <a:stretch/>
        </p:blipFill>
        <p:spPr>
          <a:xfrm>
            <a:off x="4643280" y="4572000"/>
            <a:ext cx="4357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Е РЕА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ми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реакции, которые сопровождаются изменением степеней окисления химических элементов, входящих в состав реагентов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кация ОВ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В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642960" y="2214720"/>
            <a:ext cx="285732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межмолекулярного окисления-восстано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072040" y="2286000"/>
            <a:ext cx="364320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кции внутримолекулярного окисления-восстанов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28760" y="4643280"/>
            <a:ext cx="414324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кции диспропорционирования, дисмутации или самоокисления-самовосстано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143680" y="4429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8"/>
          <p:cNvCxnSpPr/>
          <p:nvPr/>
        </p:nvCxnSpPr>
        <p:spPr>
          <a:xfrm>
            <a:off x="5214600" y="2000160"/>
            <a:ext cx="4294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10"/>
          <p:cNvCxnSpPr/>
          <p:nvPr/>
        </p:nvCxnSpPr>
        <p:spPr>
          <a:xfrm flipH="1">
            <a:off x="3285360" y="1927800"/>
            <a:ext cx="4294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12"/>
          <p:cNvCxnSpPr/>
          <p:nvPr/>
        </p:nvCxnSpPr>
        <p:spPr>
          <a:xfrm flipH="1">
            <a:off x="4071600" y="2286000"/>
            <a:ext cx="286560" cy="221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 и восстанови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е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реагент, который принимает электроны в ходе окислительно-восстановительной реакции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ле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реагент, который отдает электроны в ходе окислительно-восстановительной реакц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молекулярные реакции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ы- доноры электронов (восстановители) – и частицы- акцепторы электронов (окислители) – находятся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азных вещества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этому типу относится большинство ОВ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C:\Documents and Settings\Admin\Мои документы\Мои рисунки\Изображение\Изображение 070.jpg"/>
          <p:cNvPicPr/>
          <p:nvPr/>
        </p:nvPicPr>
        <p:blipFill>
          <a:blip r:embed="rId1"/>
          <a:stretch/>
        </p:blipFill>
        <p:spPr>
          <a:xfrm>
            <a:off x="357120" y="3714840"/>
            <a:ext cx="8423280" cy="2857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утримолекулярные реа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 электронов -  восстановитель- и акцептор электронов – окислитель – находя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дном и том же веще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Изображение 071"/>
          <p:cNvPicPr/>
          <p:nvPr/>
        </p:nvPicPr>
        <p:blipFill>
          <a:blip r:embed="rId1"/>
          <a:stretch/>
        </p:blipFill>
        <p:spPr>
          <a:xfrm>
            <a:off x="1143000" y="3143160"/>
            <a:ext cx="6572160" cy="3571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и дисмутации, или диспропорционирования, или самоокисления-самовосстано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ы одного и того же элемента в веществе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яют одновременно функции 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норов электронов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осстановителей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кцепторов электронов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окислител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реакции возможны для веществ, содержащих атомы химических элементов в промежуточной степени окис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Documents and Settings\Admin\Мои документы\Мои рисунки\Изображение\Изображение 072.jpg"/>
          <p:cNvPicPr/>
          <p:nvPr/>
        </p:nvPicPr>
        <p:blipFill>
          <a:blip r:embed="rId1"/>
          <a:stretch/>
        </p:blipFill>
        <p:spPr>
          <a:xfrm>
            <a:off x="857160" y="4071960"/>
            <a:ext cx="6786720" cy="2643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ление окислительно-восстановительных реа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ставления окислительно-восстановительных реакций использу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 метод электронного бала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ление уравнений окислительно-восстановительных реакций методом полуреакций, или ионно-электронным мето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ление окислительно-восстановительных реакций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тодом электронного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основан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авнении степеней окисления атомов в исходных веществах и продуктах реакции и на балансировании числа электронов, смещаемых от восстановителя к окислителю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применяю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ставления уравнений реакций, протекающих в любых фазах. 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остаток метод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ическое предписание для составления уравнений    окислительно-восстановительных    реакций    методом электронного баланс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схему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ить степени окисления элементов в реагентах и продуктах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ь, является реакция окислительно-восстановительной или она протекает без изменения степеней окисления элементов. В первом случае выполнить все последующие оп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черкнуть элементы, степени, окисления которых изменя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ическое предписание для составления уравнений    окислительно-восстановительных    реакций    методом электронного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пределить, какой элемент окисляе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его степень окисления повышается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кой элемент восстанавливае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его степень окислени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ижается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еак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левой части схемы обозначить с помощью стрелок процесс окисления (смещения электронов от атома элемента) и процесс восстановления (смещения электронов к атому элемен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пределить восстановител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том элемента, от которого смещаются электроны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кислител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том элемента, к которому смещаются электрон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ическое предписание для составления уравнений    окислительно-восстановительных    реакций    методом электронного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балансировать число электронов между окислителем и восстановите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пределить коэффициенты для окислителя и восстановителя, продуктов окисления и восстанов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Записать коэффициент перед формулой вещества, определяющего среду раств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роверить уравнение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ление уравнений окислительно-восстановительных реакций методом полуреакций, или ионно-электронным методом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основан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примен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ражения сущности окислительно-восстановительных реакций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оинства мет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электронно-ионных уравнениях полуреакций записываются ионы, реально существующие в водном растворе, а не условные частицы. (Например, ион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не атом азота со степенью окисления +3 и атом серы со степенью окисления +4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 использовании этого метода не нужно знать все вещества: они 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Изображение 073"/>
          <p:cNvPicPr/>
          <p:nvPr/>
        </p:nvPicPr>
        <p:blipFill>
          <a:blip r:embed="rId1"/>
          <a:stretch/>
        </p:blipFill>
        <p:spPr>
          <a:xfrm>
            <a:off x="4214880" y="4643280"/>
            <a:ext cx="12603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этапы составления уравнений окислительно-восстановительных реакций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онно-электронным методо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примере взаимодействия цинка с концентрированной азотной кислото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сываем ионную схему процесса, которая включает только восстановитель и продукт его окисления, и окислитель и продукт его восстановлен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Изображение 073"/>
          <p:cNvPicPr/>
          <p:nvPr/>
        </p:nvPicPr>
        <p:blipFill>
          <a:blip r:embed="rId1"/>
          <a:stretch/>
        </p:blipFill>
        <p:spPr>
          <a:xfrm>
            <a:off x="928800" y="4500720"/>
            <a:ext cx="74152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СС ОКИСЛЕНИЯ И ВОССТАНО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кислением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процесс отдачи электронов атомом, молекулой или ионом, который сопровождае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ением степени окисле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осстановление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процесс присоединения электронов атомом, молекулой или ионом, который сопровождае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ижением степени окисления.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Изображение 074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Изображение 07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Изображение 07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Изображение 077"/>
          <p:cNvPicPr/>
          <p:nvPr/>
        </p:nvPicPr>
        <p:blipFill>
          <a:blip r:embed="rId2"/>
          <a:srcRect l="-800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Изображение 07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определения функции соединения в окислительно-восстановительных реакциях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элемент проявляет в соединени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шую степень окислени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это соединение может быть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элемент проявляет в соединени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зшую степени окисления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это соединение может быть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элемент проявляет в соединени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межуточную степень окисления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это соединение может быть как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новителем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кажите функции веществ в окислительно-восстановительных реакциях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Изображение 078"/>
          <p:cNvPicPr/>
          <p:nvPr/>
        </p:nvPicPr>
        <p:blipFill>
          <a:blip r:embed="rId1"/>
          <a:stretch/>
        </p:blipFill>
        <p:spPr>
          <a:xfrm>
            <a:off x="5000760" y="6072120"/>
            <a:ext cx="3851280" cy="48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Изображение 0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Изображение 107"/>
          <p:cNvPicPr/>
          <p:nvPr/>
        </p:nvPicPr>
        <p:blipFill>
          <a:blip r:embed="rId2"/>
          <a:stretch/>
        </p:blipFill>
        <p:spPr>
          <a:xfrm>
            <a:off x="0" y="142920"/>
            <a:ext cx="89298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21:13:28Z</dcterms:created>
  <dc:creator>Admin</dc:creator>
  <dc:description/>
  <dc:language>en-US</dc:language>
  <cp:lastModifiedBy>Admin</cp:lastModifiedBy>
  <dcterms:modified xsi:type="dcterms:W3CDTF">2012-12-19T10:51:24Z</dcterms:modified>
  <cp:revision>52</cp:revision>
  <dc:subject/>
  <dc:title>Слайд 1</dc:title>
</cp:coreProperties>
</file>